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-3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88440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F1D68-7878-4106-84EB-6B3994B6F8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8455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25A2-A652-4F95-BE34-E4AB1C64A4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1600" y="698400"/>
            <a:ext cx="4656240" cy="349272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422600"/>
            <a:ext cx="5486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7162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828440" y="4242960"/>
            <a:ext cx="7162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49900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828440" y="424296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499000" y="424296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50160" y="213372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672240" y="213372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828440" y="424296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4250160" y="424296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672240" y="424296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828440" y="213372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49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99000" y="2133720"/>
            <a:ext cx="349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28800" y="1400040"/>
            <a:ext cx="731520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99000" y="2133720"/>
            <a:ext cx="349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828440" y="424296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828440" y="213372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49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9900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499000" y="424296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9900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828440" y="4242960"/>
            <a:ext cx="7162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7162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828440" y="4242960"/>
            <a:ext cx="7162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49900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828440" y="424296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499000" y="424296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250160" y="213372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72240" y="213372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828440" y="424296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250160" y="424296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72240" y="4242960"/>
            <a:ext cx="2306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49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99000" y="2133720"/>
            <a:ext cx="349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828800" y="1400040"/>
            <a:ext cx="7315200" cy="269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99000" y="2133720"/>
            <a:ext cx="349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828440" y="424296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4952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9900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9000" y="424296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28800" y="1369440"/>
            <a:ext cx="7315200" cy="642600"/>
          </a:xfrm>
          <a:prstGeom prst="rect">
            <a:avLst/>
          </a:prstGeom>
          <a:noFill/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82844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499000" y="2133720"/>
            <a:ext cx="34952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828440" y="4242960"/>
            <a:ext cx="7162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stuff"/>
          <p:cNvPicPr/>
          <p:nvPr/>
        </p:nvPicPr>
        <p:blipFill>
          <a:blip r:embed="rId2"/>
          <a:stretch/>
        </p:blipFill>
        <p:spPr>
          <a:xfrm>
            <a:off x="0" y="0"/>
            <a:ext cx="9144000" cy="51292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3"/>
          <p:cNvSpPr/>
          <p:nvPr/>
        </p:nvSpPr>
        <p:spPr>
          <a:xfrm>
            <a:off x="1295280" y="1752480"/>
            <a:ext cx="78487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828800" y="1400040"/>
            <a:ext cx="7315200" cy="5810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828440" y="213372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b4cce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18388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18388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4" name="Rectangle 19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ww.imtsus.com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Oval 23"/>
          <p:cNvSpPr/>
          <p:nvPr/>
        </p:nvSpPr>
        <p:spPr>
          <a:xfrm>
            <a:off x="143352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Oval 24"/>
          <p:cNvSpPr/>
          <p:nvPr/>
        </p:nvSpPr>
        <p:spPr>
          <a:xfrm>
            <a:off x="219384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Oval 25"/>
          <p:cNvSpPr/>
          <p:nvPr/>
        </p:nvSpPr>
        <p:spPr>
          <a:xfrm>
            <a:off x="295416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Oval 26"/>
          <p:cNvSpPr/>
          <p:nvPr/>
        </p:nvSpPr>
        <p:spPr>
          <a:xfrm>
            <a:off x="371484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27"/>
          <p:cNvSpPr/>
          <p:nvPr/>
        </p:nvSpPr>
        <p:spPr>
          <a:xfrm>
            <a:off x="447516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Oval 28"/>
          <p:cNvSpPr/>
          <p:nvPr/>
        </p:nvSpPr>
        <p:spPr>
          <a:xfrm>
            <a:off x="5237280" y="6159600"/>
            <a:ext cx="6480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Oval 29"/>
          <p:cNvSpPr/>
          <p:nvPr/>
        </p:nvSpPr>
        <p:spPr>
          <a:xfrm>
            <a:off x="599760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Oval 30"/>
          <p:cNvSpPr/>
          <p:nvPr/>
        </p:nvSpPr>
        <p:spPr>
          <a:xfrm>
            <a:off x="675792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Oval 31"/>
          <p:cNvSpPr/>
          <p:nvPr/>
        </p:nvSpPr>
        <p:spPr>
          <a:xfrm>
            <a:off x="751824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Oval 32"/>
          <p:cNvSpPr/>
          <p:nvPr/>
        </p:nvSpPr>
        <p:spPr>
          <a:xfrm>
            <a:off x="8280360" y="6159600"/>
            <a:ext cx="65160" cy="65160"/>
          </a:xfrm>
          <a:prstGeom prst="ellipse">
            <a:avLst/>
          </a:prstGeom>
          <a:solidFill>
            <a:srgbClr val="bdd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" name="Picture 34" descr="IMTS-Quarter"/>
          <p:cNvPicPr/>
          <p:nvPr/>
        </p:nvPicPr>
        <p:blipFill>
          <a:blip r:embed="rId3"/>
          <a:stretch/>
        </p:blipFill>
        <p:spPr>
          <a:xfrm>
            <a:off x="0" y="0"/>
            <a:ext cx="1447920" cy="72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1" descr="stuff"/>
          <p:cNvPicPr/>
          <p:nvPr/>
        </p:nvPicPr>
        <p:blipFill>
          <a:blip r:embed="rId2"/>
          <a:stretch/>
        </p:blipFill>
        <p:spPr>
          <a:xfrm>
            <a:off x="0" y="0"/>
            <a:ext cx="9144000" cy="51292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0"/>
          <p:cNvSpPr/>
          <p:nvPr/>
        </p:nvSpPr>
        <p:spPr>
          <a:xfrm>
            <a:off x="0" y="6613560"/>
            <a:ext cx="9144000" cy="2462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ww.imtsus.com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4" descr="IMTS-Quarter"/>
          <p:cNvPicPr/>
          <p:nvPr/>
        </p:nvPicPr>
        <p:blipFill>
          <a:blip r:embed="rId3"/>
          <a:stretch/>
        </p:blipFill>
        <p:spPr>
          <a:xfrm>
            <a:off x="0" y="0"/>
            <a:ext cx="1447920" cy="7239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1400040"/>
            <a:ext cx="7315200" cy="5810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828440" y="2133720"/>
            <a:ext cx="7162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b4cce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b4cce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18388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18388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36840" y="4651200"/>
            <a:ext cx="6781680" cy="147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IMTS Market-based Research</a:t>
            </a:r>
            <a:br>
              <a:rPr sz="2800"/>
            </a:b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Demand Generation Proposal</a:t>
            </a:r>
            <a:br>
              <a:rPr sz="2800"/>
            </a:b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for Alliance Global Services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6" descr="IMTS-Original"/>
          <p:cNvPicPr/>
          <p:nvPr/>
        </p:nvPicPr>
        <p:blipFill>
          <a:blip r:embed="rId1"/>
          <a:stretch/>
        </p:blipFill>
        <p:spPr>
          <a:xfrm>
            <a:off x="2035080" y="1636560"/>
            <a:ext cx="57340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28800" y="1400040"/>
            <a:ext cx="7315200" cy="5810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TS Performance-based Fees: Option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828800" y="2133720"/>
            <a:ext cx="7153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183883"/>
                </a:solidFill>
                <a:uFillTx/>
                <a:latin typeface="Arial"/>
              </a:rPr>
              <a:t>Survey Option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One Time Fees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Initial Call List Development                 $500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Survey Development                            $500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Monthly Fees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Project Manager                                   $1000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List Development                                  $500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Survey Fee                                            $45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Fee Per accepted Sales Appointment  $125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828800" y="1400040"/>
            <a:ext cx="7315200" cy="5810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TS Performance-based Fees: Option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28800" y="2133720"/>
            <a:ext cx="7153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183883"/>
                </a:solidFill>
                <a:uFillTx/>
                <a:latin typeface="Arial"/>
              </a:rPr>
              <a:t>Lead-generation Option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One Time Fees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Initial Call List Development                 $500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Attack Letter Development                   $500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Monthly Fees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Project Manager                                   $1000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List Development                                  $500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Fee Per Accepted Sales Appointment  $300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28800" y="1400040"/>
            <a:ext cx="7315200" cy="5810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ct Us for More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140520" y="4432320"/>
            <a:ext cx="3003480" cy="1506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211120" y="2589120"/>
            <a:ext cx="4309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Jay Jablonski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Corporate Vice Presid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IMTS Integrated Marketing Solu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(520) 297-5794 (Direc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(520) 390-2893 (Mobi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(520) 742-2928 (Fax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jjablonski@imtsus.co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www.imtsus.co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 rot="2421600">
            <a:off x="5622480" y="3033360"/>
            <a:ext cx="2606760" cy="1862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828800" y="2133720"/>
            <a:ext cx="7153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3883"/>
                </a:solidFill>
                <a:latin typeface="Arial"/>
              </a:rPr>
              <a:t>Most Marketing efforts track Activity not Demand</a:t>
            </a:r>
            <a:endParaRPr b="0" lang="en-US" sz="22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3883"/>
                </a:solidFill>
                <a:latin typeface="Arial"/>
              </a:rPr>
              <a:t>Responses From:</a:t>
            </a:r>
            <a:endParaRPr b="0" lang="en-US" sz="22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83883"/>
                </a:solidFill>
                <a:latin typeface="Arial"/>
              </a:rPr>
              <a:t>E-mail or Direct Mail Blasts</a:t>
            </a:r>
            <a:endParaRPr b="0" lang="en-US" sz="19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83883"/>
                </a:solidFill>
                <a:latin typeface="Arial"/>
              </a:rPr>
              <a:t>Trade Shows</a:t>
            </a:r>
            <a:endParaRPr b="0" lang="en-US" sz="19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83883"/>
                </a:solidFill>
                <a:latin typeface="Arial"/>
              </a:rPr>
              <a:t>Click Through Ads</a:t>
            </a:r>
            <a:endParaRPr b="0" lang="en-US" sz="19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83883"/>
                </a:solidFill>
                <a:latin typeface="Arial"/>
              </a:rPr>
              <a:t>Web Sites</a:t>
            </a:r>
            <a:endParaRPr b="0" lang="en-US" sz="19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83883"/>
                </a:solidFill>
                <a:latin typeface="Arial"/>
              </a:rPr>
              <a:t>Webinars</a:t>
            </a:r>
            <a:endParaRPr b="0" lang="en-US" sz="19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83883"/>
                </a:solidFill>
                <a:latin typeface="Arial"/>
              </a:rPr>
              <a:t>Are unqualified indications of interest with low correlations to sales wasting time or engaging low-level contacts?</a:t>
            </a:r>
            <a:endParaRPr b="0" lang="en-US" sz="1900" spc="-1" strike="noStrike">
              <a:solidFill>
                <a:srgbClr val="18388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828800" y="1400040"/>
            <a:ext cx="7315200" cy="5810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ing Demand Leads to Reven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8800" y="1400040"/>
            <a:ext cx="7315200" cy="5810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arket Research Based Demand Generati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828800" y="2133720"/>
            <a:ext cx="7153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3883"/>
                </a:solidFill>
                <a:latin typeface="Arial"/>
              </a:rPr>
              <a:t>Qualified Sales Opportunities Are Defined By:</a:t>
            </a:r>
            <a:endParaRPr b="0" lang="en-US" sz="22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3883"/>
                </a:solidFill>
                <a:latin typeface="Arial"/>
              </a:rPr>
              <a:t>Customer Environment</a:t>
            </a:r>
            <a:endParaRPr b="0" lang="en-US" sz="22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83883"/>
                </a:solidFill>
                <a:latin typeface="Arial"/>
              </a:rPr>
              <a:t>Business operating conditions and facts that make using a Solution, Product or Service practical or impractical</a:t>
            </a:r>
            <a:endParaRPr b="0" lang="en-US" sz="19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3883"/>
                </a:solidFill>
                <a:latin typeface="Arial"/>
              </a:rPr>
              <a:t>Customer Sensitivity to Operating Problems</a:t>
            </a:r>
            <a:endParaRPr b="0" lang="en-US" sz="22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83883"/>
                </a:solidFill>
                <a:latin typeface="Arial"/>
              </a:rPr>
              <a:t>Recognized business problems a customer will pay money to solve----which can be solved by the solution, service, or product you offer</a:t>
            </a:r>
            <a:endParaRPr b="0" lang="en-US" sz="19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28800" y="1400040"/>
            <a:ext cx="7315200" cy="5810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TS Offers A Pay For Performance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828800" y="2133720"/>
            <a:ext cx="7153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Lead Qualification Tests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Contact must have an approved Title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Contact must be at an approved Company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Contact must understand the reason for the call and have received an offering brief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Call must Occur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183883"/>
                </a:solidFill>
                <a:uFillTx/>
                <a:latin typeface="Arial"/>
              </a:rPr>
              <a:t>Note:</a:t>
            </a: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 Only Qualified calls are billable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502320" y="3670200"/>
            <a:ext cx="2387520" cy="23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28800" y="1400040"/>
            <a:ext cx="7315200" cy="5810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vey-based Lead Gen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828800" y="2133720"/>
            <a:ext cx="7153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83883"/>
                </a:solidFill>
                <a:latin typeface="Arial"/>
              </a:rPr>
              <a:t>IMTS qualifies leads via Demand Survey </a:t>
            </a:r>
            <a:endParaRPr b="0" lang="en-US" sz="19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83883"/>
                </a:solidFill>
                <a:latin typeface="Arial"/>
              </a:rPr>
              <a:t>Qualify to top prospect with a timeframe for action</a:t>
            </a:r>
            <a:endParaRPr b="0" lang="en-US" sz="19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83883"/>
                </a:solidFill>
                <a:latin typeface="Arial"/>
              </a:rPr>
              <a:t>Sets time &amp; date with executive of proper level and responsibility</a:t>
            </a:r>
            <a:endParaRPr b="0" lang="en-US" sz="19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83883"/>
                </a:solidFill>
                <a:latin typeface="Arial"/>
              </a:rPr>
              <a:t>Send follow-up e-mail confirmation letter to ensure attendance and understanding of the call’s purpose</a:t>
            </a:r>
            <a:endParaRPr b="0" lang="en-US" sz="19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83883"/>
                </a:solidFill>
                <a:latin typeface="Arial"/>
              </a:rPr>
              <a:t>Reminder calls to boost number of successful calls</a:t>
            </a:r>
            <a:endParaRPr b="0" lang="en-US" sz="19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83883"/>
                </a:solidFill>
                <a:latin typeface="Arial"/>
              </a:rPr>
              <a:t>80% recovery rate on “No Show” calls</a:t>
            </a:r>
            <a:endParaRPr b="0" lang="en-US" sz="19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062760" y="4280040"/>
            <a:ext cx="3081240" cy="23112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28800" y="1400040"/>
            <a:ext cx="7315200" cy="5810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TS Offers a Complete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28800" y="2133720"/>
            <a:ext cx="7153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IMTS provides all services for this lead generation system: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Prospect List Generation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Sourcing of executive contacts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Survey Design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Marketing Letter Design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Results” PowerPoint to set up Sales call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Appointment confirmation and reminders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Lost appointment recovery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28800" y="1400040"/>
            <a:ext cx="7315200" cy="5810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and Based Lead Gen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828800" y="2133720"/>
            <a:ext cx="7153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6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83883"/>
                </a:solidFill>
                <a:latin typeface="Arial"/>
              </a:rPr>
              <a:t>Engages Executive Management with a financially-based value proposition </a:t>
            </a:r>
            <a:endParaRPr b="0" lang="en-US" sz="19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83883"/>
                </a:solidFill>
                <a:latin typeface="Arial"/>
              </a:rPr>
              <a:t>Creates consequences for executive management team members that ignore your offer</a:t>
            </a:r>
            <a:endParaRPr b="0" lang="en-US" sz="19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83883"/>
                </a:solidFill>
                <a:latin typeface="Arial"/>
              </a:rPr>
              <a:t>Sets time and date with executive of proper level and responsibility</a:t>
            </a:r>
            <a:endParaRPr b="0" lang="en-US" sz="19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83883"/>
                </a:solidFill>
                <a:latin typeface="Arial"/>
              </a:rPr>
              <a:t>Send follow-up e-mail confirmation letter to ensure attendance and understanding of the call’s purpose</a:t>
            </a:r>
            <a:endParaRPr b="0" lang="en-US" sz="19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83883"/>
                </a:solidFill>
                <a:latin typeface="Arial"/>
              </a:rPr>
              <a:t>Reminder calls to boost number of successful calls</a:t>
            </a:r>
            <a:endParaRPr b="0" lang="en-US" sz="19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83883"/>
                </a:solidFill>
                <a:latin typeface="Arial"/>
              </a:rPr>
              <a:t>80% recovery rate on “No Show” calls</a:t>
            </a:r>
            <a:endParaRPr b="0" lang="en-US" sz="19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183883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83883"/>
                </a:solidFill>
                <a:latin typeface="Arial"/>
              </a:rPr>
              <a:t>A Better Plan for a Winning Sales Pipeline</a:t>
            </a:r>
            <a:endParaRPr b="0" lang="en-US" sz="22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28800" y="1400040"/>
            <a:ext cx="7315200" cy="5810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TS Offers a Complete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28800" y="2133720"/>
            <a:ext cx="7153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IMTS provides a turnkey lead generation system: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Prospect list generation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Sourcing of executive contacts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Marketing letter design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 “</a:t>
            </a: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Circle of Leverage” internal referrals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Appointment confirmation and reminders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83883"/>
                </a:solidFill>
                <a:latin typeface="Arial"/>
              </a:rPr>
              <a:t>Lost appointment recovery</a:t>
            </a:r>
            <a:endParaRPr b="0" lang="en-US" sz="2000" spc="-1" strike="noStrike">
              <a:solidFill>
                <a:srgbClr val="183883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638680" y="4321080"/>
            <a:ext cx="304812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486400" y="2679840"/>
            <a:ext cx="2921040" cy="23731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28800" y="1400040"/>
            <a:ext cx="7315200" cy="58104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lIns="198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TS Lead-gen Expec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828800" y="2133720"/>
            <a:ext cx="7153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Work in Progress (accounts approved for development in markets of interest)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Month 1: 12% WIP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Month 2: 8% WIP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Month 3: 8% WIP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4cce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Month 4: Stragglers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83883"/>
                </a:solidFill>
                <a:latin typeface="Arial"/>
              </a:rPr>
              <a:t>We expect to convert approx. 30% of Work in Progress leads to occurred appointments over a period of 3-4 months.</a:t>
            </a:r>
            <a:endParaRPr b="0" lang="en-US" sz="2400" spc="-1" strike="noStrike">
              <a:solidFill>
                <a:srgbClr val="18388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4:06:28Z</dcterms:created>
  <dc:creator>Presentation Magazine</dc:creator>
  <dc:description/>
  <dc:language>en-US</dc:language>
  <cp:lastModifiedBy>Jay Jablonski</cp:lastModifiedBy>
  <dcterms:modified xsi:type="dcterms:W3CDTF">2011-09-27T13:32:00Z</dcterms:modified>
  <cp:revision>248</cp:revision>
  <dc:subject/>
  <dc:title>Corporate 2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hecked by">
    <vt:lpwstr>Presentation Helper</vt:lpwstr>
  </property>
</Properties>
</file>